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ED1-0542-4A18-9901-AF95A252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29D-710C-4046-8119-3820B0A6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9A8-F144-4B17-AED3-C329D8E4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044-8E63-4C19-972B-B729100C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57F-3196-496F-A1CA-D65206EC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0D1-CD72-4701-A05E-D7685F48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861-EA84-419F-A7AA-ACEE528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201-F6FA-4940-9658-6B47F930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07C-460C-4D1F-BC5A-FF62AE12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541-CDF0-4A3A-88FD-72F1EA57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FB4-DBDA-48AD-8530-EE74432B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0FF-EC7C-4E50-853A-8DAF0183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6FB8-7A6A-4750-B4FE-534E02463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 ____________ Clase 8 IM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el 5 de octubre del 201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Proposito # 7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Como continuamos el repaso de los P.O.D y del preterito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juga los siguientes verbos en el PRESENTE y el PRETERIT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a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to buy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quila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to rent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to use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leva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to wear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AC Futura Casual"/>
              </a:rPr>
              <a:t>Preterito de verbos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CAC Futura Casual"/>
              </a:rPr>
              <a:t>irregulares: -CAR, -GAR, -ZAR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666880" y="3429000"/>
          <a:ext cx="3733560" cy="2800080"/>
        </p:xfrm>
        <a:graphic>
          <a:graphicData uri="http://schemas.openxmlformats.org/drawingml/2006/table">
            <a:tbl>
              <a:tblPr/>
              <a:tblGrid>
                <a:gridCol w="1866960"/>
                <a:gridCol w="18666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CAC Futura Casual"/>
                        </a:rPr>
                        <a:t>Y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99"/>
                          </a:solidFill>
                          <a:latin typeface="CAC Futura Casual"/>
                        </a:rPr>
                        <a:t>-ca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99"/>
                          </a:solidFill>
                          <a:latin typeface="CAC Futura Casual"/>
                        </a:rPr>
                        <a:t>-QU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AC Futura Casual"/>
                        </a:rPr>
                        <a:t>-ga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AC Futura Casual"/>
                        </a:rPr>
                        <a:t>-GU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99"/>
                          </a:solidFill>
                          <a:latin typeface="CAC Futura Casual"/>
                        </a:rPr>
                        <a:t>-za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99"/>
                          </a:solidFill>
                          <a:latin typeface="CAC Futura Casual"/>
                        </a:rPr>
                        <a:t>-C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85800" y="182880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Remember that when a verb ends in –CAR, -GAR or –ZAR there are special conjugation rules for the YO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Practica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1657440"/>
          <a:ext cx="8076960" cy="43624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  <a:gridCol w="1346040"/>
                <a:gridCol w="1346400"/>
                <a:gridCol w="1346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Buscar</a:t>
                      </a:r>
                      <a:r>
                        <a:rPr b="0" i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(to sear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Lleg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(to arriv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Rez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(to pr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AC Futura Casual"/>
              </a:rPr>
              <a:t>Ejercicios: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Le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Los pronombres de objeto directo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307 de la hoja distribuida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mpleten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s A-C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308; en la hoja distribuida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D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308 de la hoja distribuida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0" name=""/>
          <p:cNvSpPr/>
          <p:nvPr/>
        </p:nvSpPr>
        <p:spPr>
          <a:xfrm>
            <a:off x="839880" y="31240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AC Futura Casual"/>
              </a:rPr>
              <a:t>Tarea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20:10:25Z</dcterms:created>
  <dc:creator>Helen Zumaeta</dc:creator>
  <dc:description/>
  <dc:language>en-US</dc:language>
  <cp:lastModifiedBy>Helen Zumaeta</cp:lastModifiedBy>
  <dcterms:modified xsi:type="dcterms:W3CDTF">2012-10-04T21:40:44Z</dcterms:modified>
  <cp:revision>4</cp:revision>
  <dc:subject/>
  <dc:title>Me llamo ____________ Clase 8 IM La fecha es el 5 de octubre del 2012</dc:title>
</cp:coreProperties>
</file>